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BBA-1846-46A2-A9CC-0C79CF4AE5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FA7A-3031-40F3-AA67-BDE1CA55ED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探索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76720" y="3430440"/>
            <a:ext cx="489564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24080" y="2592360"/>
            <a:ext cx="52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气球装饰方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2216160" y="3068640"/>
            <a:ext cx="422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÷3=9……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第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是红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1660680" y="3817800"/>
            <a:ext cx="53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彩旗里有几面红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1760400" y="2706840"/>
            <a:ext cx="5288040" cy="925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90000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1258920" y="2781360"/>
            <a:ext cx="66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仔细观察彩旗的排列，发现规律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红旗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黄旗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绿旗为一组，一组一组排列下去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组，可以分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，一组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红旗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就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红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2016000" y="2852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÷6=1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×10=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面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6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面彩旗里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面红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9"/>
          <p:cNvSpPr/>
          <p:nvPr/>
        </p:nvSpPr>
        <p:spPr>
          <a:xfrm>
            <a:off x="1763640" y="1700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下图摆圆片，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是什么颜色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1" name="矩形 1"/>
          <p:cNvSpPr/>
          <p:nvPr/>
        </p:nvSpPr>
        <p:spPr>
          <a:xfrm rot="18297600">
            <a:off x="6757920" y="4910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2050920" y="395748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÷5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第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是红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447920" y="2981160"/>
            <a:ext cx="5991120" cy="495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9"/>
          <p:cNvSpPr/>
          <p:nvPr/>
        </p:nvSpPr>
        <p:spPr>
          <a:xfrm>
            <a:off x="1433520" y="285264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错在没有判断准确一组有几个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红的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黄的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红的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黄的，这样一组一组排列的，所以一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组，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，所以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是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的最后一个，是黄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5"/>
          <p:cNvSpPr/>
          <p:nvPr/>
        </p:nvSpPr>
        <p:spPr>
          <a:xfrm rot="18297600">
            <a:off x="6737400" y="52322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227640" y="7938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2" name="矩形 20"/>
          <p:cNvSpPr/>
          <p:nvPr/>
        </p:nvSpPr>
        <p:spPr>
          <a:xfrm rot="18297600">
            <a:off x="7514640" y="270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9"/>
          <p:cNvSpPr/>
          <p:nvPr/>
        </p:nvSpPr>
        <p:spPr>
          <a:xfrm>
            <a:off x="1763640" y="170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下图摆圆片，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是什么颜色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2"/>
          <p:cNvSpPr/>
          <p:nvPr/>
        </p:nvSpPr>
        <p:spPr>
          <a:xfrm>
            <a:off x="2468520" y="34336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÷5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第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是红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4"/>
          <a:stretch/>
        </p:blipFill>
        <p:spPr>
          <a:xfrm>
            <a:off x="1447920" y="2805120"/>
            <a:ext cx="5991120" cy="4953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8"/>
          <p:cNvSpPr/>
          <p:nvPr/>
        </p:nvSpPr>
        <p:spPr>
          <a:xfrm>
            <a:off x="2660760" y="4724280"/>
            <a:ext cx="45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÷4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答：第</a:t>
            </a:r>
            <a:r>
              <a:rPr b="0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是黄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42"/>
          <p:cNvSpPr/>
          <p:nvPr/>
        </p:nvSpPr>
        <p:spPr>
          <a:xfrm>
            <a:off x="539640" y="1700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几个是一组，圈一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同侧圆角矩形 3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4" descr="64"/>
          <p:cNvPicPr/>
          <p:nvPr/>
        </p:nvPicPr>
        <p:blipFill>
          <a:blip r:embed="rId1"/>
          <a:stretch/>
        </p:blipFill>
        <p:spPr>
          <a:xfrm>
            <a:off x="1332000" y="2496960"/>
            <a:ext cx="6210360" cy="781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0" descr=""/>
          <p:cNvPicPr/>
          <p:nvPr/>
        </p:nvPicPr>
        <p:blipFill>
          <a:blip r:embed="rId2"/>
          <a:stretch/>
        </p:blipFill>
        <p:spPr>
          <a:xfrm>
            <a:off x="1538280" y="3500280"/>
            <a:ext cx="6219720" cy="895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p86_3"/>
          <p:cNvPicPr/>
          <p:nvPr/>
        </p:nvPicPr>
        <p:blipFill>
          <a:blip r:embed="rId3"/>
          <a:stretch/>
        </p:blipFill>
        <p:spPr>
          <a:xfrm>
            <a:off x="1770120" y="4941720"/>
            <a:ext cx="5334120" cy="871560"/>
          </a:xfrm>
          <a:prstGeom prst="rect">
            <a:avLst/>
          </a:prstGeom>
          <a:ln w="0">
            <a:noFill/>
          </a:ln>
        </p:spPr>
      </p:pic>
      <p:sp>
        <p:nvSpPr>
          <p:cNvPr id="204" name="椭圆 1"/>
          <p:cNvSpPr/>
          <p:nvPr/>
        </p:nvSpPr>
        <p:spPr>
          <a:xfrm>
            <a:off x="1187280" y="2496960"/>
            <a:ext cx="172908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15"/>
          <p:cNvSpPr/>
          <p:nvPr/>
        </p:nvSpPr>
        <p:spPr>
          <a:xfrm>
            <a:off x="2749680" y="2496960"/>
            <a:ext cx="172872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16"/>
          <p:cNvSpPr/>
          <p:nvPr/>
        </p:nvSpPr>
        <p:spPr>
          <a:xfrm>
            <a:off x="4356000" y="2496960"/>
            <a:ext cx="172872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18"/>
          <p:cNvSpPr/>
          <p:nvPr/>
        </p:nvSpPr>
        <p:spPr>
          <a:xfrm>
            <a:off x="5940360" y="2496960"/>
            <a:ext cx="172728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19"/>
          <p:cNvSpPr/>
          <p:nvPr/>
        </p:nvSpPr>
        <p:spPr>
          <a:xfrm>
            <a:off x="1332000" y="3557520"/>
            <a:ext cx="228132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椭圆 20"/>
          <p:cNvSpPr/>
          <p:nvPr/>
        </p:nvSpPr>
        <p:spPr>
          <a:xfrm>
            <a:off x="3587760" y="3627360"/>
            <a:ext cx="228276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椭圆 23"/>
          <p:cNvSpPr/>
          <p:nvPr/>
        </p:nvSpPr>
        <p:spPr>
          <a:xfrm>
            <a:off x="5859360" y="3567240"/>
            <a:ext cx="209736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椭圆 24"/>
          <p:cNvSpPr/>
          <p:nvPr/>
        </p:nvSpPr>
        <p:spPr>
          <a:xfrm>
            <a:off x="1692360" y="5010120"/>
            <a:ext cx="172728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椭圆 25"/>
          <p:cNvSpPr/>
          <p:nvPr/>
        </p:nvSpPr>
        <p:spPr>
          <a:xfrm>
            <a:off x="3419640" y="4986360"/>
            <a:ext cx="172872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椭圆 26"/>
          <p:cNvSpPr/>
          <p:nvPr/>
        </p:nvSpPr>
        <p:spPr>
          <a:xfrm>
            <a:off x="5180040" y="4941720"/>
            <a:ext cx="1727280" cy="7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95"/>
          <p:cNvGrpSpPr/>
          <p:nvPr/>
        </p:nvGrpSpPr>
        <p:grpSpPr>
          <a:xfrm>
            <a:off x="1044720" y="2698920"/>
            <a:ext cx="6335640" cy="539640"/>
            <a:chOff x="1044720" y="2698920"/>
            <a:chExt cx="6335640" cy="539640"/>
          </a:xfrm>
        </p:grpSpPr>
        <p:sp>
          <p:nvSpPr>
            <p:cNvPr id="215" name="AutoShape 3"/>
            <p:cNvSpPr/>
            <p:nvPr/>
          </p:nvSpPr>
          <p:spPr>
            <a:xfrm>
              <a:off x="1044720" y="2698920"/>
              <a:ext cx="718920" cy="539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>
              <a:off x="1906560" y="269892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3529080" y="2698920"/>
              <a:ext cx="539640" cy="53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6840360" y="2698920"/>
              <a:ext cx="54000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5184720" y="2698920"/>
              <a:ext cx="539640" cy="5396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AutoShape 8"/>
            <p:cNvSpPr/>
            <p:nvPr/>
          </p:nvSpPr>
          <p:spPr>
            <a:xfrm>
              <a:off x="4248000" y="2698920"/>
              <a:ext cx="719280" cy="539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AutoShape 9"/>
            <p:cNvSpPr/>
            <p:nvPr/>
          </p:nvSpPr>
          <p:spPr>
            <a:xfrm>
              <a:off x="2641680" y="2698920"/>
              <a:ext cx="718920" cy="53964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AutoShape 10"/>
            <p:cNvSpPr/>
            <p:nvPr/>
          </p:nvSpPr>
          <p:spPr>
            <a:xfrm>
              <a:off x="5905440" y="2698920"/>
              <a:ext cx="719280" cy="539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AutoShape 11"/>
          <p:cNvSpPr/>
          <p:nvPr/>
        </p:nvSpPr>
        <p:spPr>
          <a:xfrm>
            <a:off x="7597800" y="2698920"/>
            <a:ext cx="719280" cy="53964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86"/>
          <p:cNvSpPr/>
          <p:nvPr/>
        </p:nvSpPr>
        <p:spPr>
          <a:xfrm>
            <a:off x="960480" y="1773360"/>
            <a:ext cx="42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一猜，后面是什么</a:t>
            </a: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7853040" y="278604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7597800" y="2698920"/>
            <a:ext cx="719280" cy="539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8" descr="p3_3"/>
          <p:cNvPicPr/>
          <p:nvPr/>
        </p:nvPicPr>
        <p:blipFill>
          <a:blip r:embed="rId1"/>
          <a:stretch/>
        </p:blipFill>
        <p:spPr>
          <a:xfrm>
            <a:off x="7107120" y="4681440"/>
            <a:ext cx="1641600" cy="19162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97"/>
          <p:cNvGrpSpPr/>
          <p:nvPr/>
        </p:nvGrpSpPr>
        <p:grpSpPr>
          <a:xfrm>
            <a:off x="4681440" y="4530600"/>
            <a:ext cx="2554200" cy="1347840"/>
            <a:chOff x="4681440" y="4530600"/>
            <a:chExt cx="2554200" cy="1347840"/>
          </a:xfrm>
        </p:grpSpPr>
        <p:sp>
          <p:nvSpPr>
            <p:cNvPr id="229" name="AutoShape 90"/>
            <p:cNvSpPr/>
            <p:nvPr/>
          </p:nvSpPr>
          <p:spPr>
            <a:xfrm>
              <a:off x="4681440" y="4530600"/>
              <a:ext cx="2554200" cy="1347840"/>
            </a:xfrm>
            <a:prstGeom prst="wedgeRoundRectCallout">
              <a:avLst>
                <a:gd name="adj1" fmla="val 60749"/>
                <a:gd name="adj2" fmla="val -8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观察形状的规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按                重复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排列</a:t>
              </a:r>
              <a:r>
                <a:rPr b="0" lang="zh-CN" sz="2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Group 96"/>
            <p:cNvGrpSpPr/>
            <p:nvPr/>
          </p:nvGrpSpPr>
          <p:grpSpPr>
            <a:xfrm>
              <a:off x="5510160" y="5059440"/>
              <a:ext cx="762120" cy="277920"/>
              <a:chOff x="5510160" y="5059440"/>
              <a:chExt cx="762120" cy="277920"/>
            </a:xfrm>
          </p:grpSpPr>
          <p:sp>
            <p:nvSpPr>
              <p:cNvPr id="231" name="AutoShape 3"/>
              <p:cNvSpPr/>
              <p:nvPr/>
            </p:nvSpPr>
            <p:spPr>
              <a:xfrm>
                <a:off x="5510160" y="5059440"/>
                <a:ext cx="370080" cy="2779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Rectangle 4"/>
              <p:cNvSpPr/>
              <p:nvPr/>
            </p:nvSpPr>
            <p:spPr>
              <a:xfrm>
                <a:off x="5994360" y="5059440"/>
                <a:ext cx="277920" cy="277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3" name="AutoShape 46"/>
          <p:cNvSpPr/>
          <p:nvPr/>
        </p:nvSpPr>
        <p:spPr>
          <a:xfrm>
            <a:off x="4662360" y="4540320"/>
            <a:ext cx="2664000" cy="1353960"/>
          </a:xfrm>
          <a:prstGeom prst="wedgeRoundRectCallout">
            <a:avLst>
              <a:gd name="adj1" fmla="val 57569"/>
              <a:gd name="adj2" fmla="val -82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再观察颜色的规律是按红、黄、蓝重复排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72"/>
          <p:cNvSpPr/>
          <p:nvPr/>
        </p:nvSpPr>
        <p:spPr>
          <a:xfrm>
            <a:off x="4684680" y="4292640"/>
            <a:ext cx="2592360" cy="2016000"/>
          </a:xfrm>
          <a:prstGeom prst="wedgeRoundRectCallout">
            <a:avLst>
              <a:gd name="adj1" fmla="val 57884"/>
              <a:gd name="adj2" fmla="val -78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也可以先观察颜色的规律，再观察形状的规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66"/>
          <p:cNvSpPr/>
          <p:nvPr/>
        </p:nvSpPr>
        <p:spPr>
          <a:xfrm>
            <a:off x="1952640" y="4365720"/>
            <a:ext cx="1871640" cy="593640"/>
          </a:xfrm>
          <a:prstGeom prst="wedgeRoundRectCallout">
            <a:avLst>
              <a:gd name="adj1" fmla="val -60685"/>
              <a:gd name="adj2" fmla="val 4358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该怎样想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00"/>
          <p:cNvSpPr/>
          <p:nvPr/>
        </p:nvSpPr>
        <p:spPr>
          <a:xfrm>
            <a:off x="46800" y="5734080"/>
            <a:ext cx="566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Calibri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Calibri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2" descr="P-055"/>
          <p:cNvPicPr/>
          <p:nvPr/>
        </p:nvPicPr>
        <p:blipFill>
          <a:blip r:embed="rId2"/>
          <a:stretch/>
        </p:blipFill>
        <p:spPr>
          <a:xfrm>
            <a:off x="457200" y="4078440"/>
            <a:ext cx="1674720" cy="16412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5"/>
          <p:cNvSpPr/>
          <p:nvPr/>
        </p:nvSpPr>
        <p:spPr>
          <a:xfrm>
            <a:off x="2771640" y="371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红色正方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372360" y="824040"/>
            <a:ext cx="2160360" cy="1596960"/>
          </a:xfrm>
          <a:prstGeom prst="rect">
            <a:avLst/>
          </a:prstGeom>
          <a:ln w="0">
            <a:noFill/>
          </a:ln>
        </p:spPr>
      </p:pic>
      <p:sp>
        <p:nvSpPr>
          <p:cNvPr id="241" name="矩形 16"/>
          <p:cNvSpPr/>
          <p:nvPr/>
        </p:nvSpPr>
        <p:spPr>
          <a:xfrm>
            <a:off x="1239840" y="244008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朋友的手是怎样伸展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p86_4"/>
          <p:cNvPicPr/>
          <p:nvPr/>
        </p:nvPicPr>
        <p:blipFill>
          <a:blip r:embed="rId2"/>
          <a:stretch/>
        </p:blipFill>
        <p:spPr>
          <a:xfrm>
            <a:off x="1182600" y="3213000"/>
            <a:ext cx="6991560" cy="1589040"/>
          </a:xfrm>
          <a:prstGeom prst="rect">
            <a:avLst/>
          </a:prstGeom>
          <a:ln w="0">
            <a:noFill/>
          </a:ln>
        </p:spPr>
      </p:pic>
      <p:sp>
        <p:nvSpPr>
          <p:cNvPr id="245" name="椭圆 19"/>
          <p:cNvSpPr/>
          <p:nvPr/>
        </p:nvSpPr>
        <p:spPr>
          <a:xfrm>
            <a:off x="1239840" y="3516480"/>
            <a:ext cx="228132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20"/>
          <p:cNvSpPr/>
          <p:nvPr/>
        </p:nvSpPr>
        <p:spPr>
          <a:xfrm>
            <a:off x="3544920" y="3544920"/>
            <a:ext cx="2282760" cy="839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椭圆 21"/>
          <p:cNvSpPr/>
          <p:nvPr/>
        </p:nvSpPr>
        <p:spPr>
          <a:xfrm>
            <a:off x="5892840" y="3546360"/>
            <a:ext cx="228132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2"/>
          <p:cNvSpPr/>
          <p:nvPr/>
        </p:nvSpPr>
        <p:spPr>
          <a:xfrm>
            <a:off x="2141640" y="52293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÷3=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组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第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小朋友的手是下垂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26920" y="4797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活动中获得成功的体验，增强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观察、探索规律和自己设计方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及利用规律解决简单的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826920" y="299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综合运用已有的除法和余数的相关知识解决现实中的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进行简单地、有条理地思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372360" y="765000"/>
            <a:ext cx="2160360" cy="1597320"/>
          </a:xfrm>
          <a:prstGeom prst="rect">
            <a:avLst/>
          </a:prstGeom>
          <a:ln w="0">
            <a:noFill/>
          </a:ln>
        </p:spPr>
      </p:pic>
      <p:sp>
        <p:nvSpPr>
          <p:cNvPr id="250" name="矩形 16"/>
          <p:cNvSpPr/>
          <p:nvPr/>
        </p:nvSpPr>
        <p:spPr>
          <a:xfrm>
            <a:off x="646200" y="1822320"/>
            <a:ext cx="630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下面的规律挂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气球，其中黄色的和蓝色的各几个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660760" y="4233960"/>
            <a:ext cx="50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÷4=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组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×5=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黄色的和蓝色的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同侧圆角矩形 1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187720" y="2997360"/>
            <a:ext cx="4184640" cy="1069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1"/>
          <p:cNvSpPr/>
          <p:nvPr/>
        </p:nvSpPr>
        <p:spPr>
          <a:xfrm>
            <a:off x="900000" y="48211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÷9=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组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红色：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4=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黄色：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=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蓝色：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=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根）答：红色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根、黄色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根、蓝色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00000" y="1628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按照下图的规律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彩带，其中红、黄、蓝各几根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同侧圆角矩形 1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" descr="C:\Users\Administrator\AppData\Roaming\Tencent\Users\781547643\QQ\WinTemp\RichOle\~IDBOJAS)AKG$@6DRYKS)PL.png"/>
          <p:cNvPicPr/>
          <p:nvPr/>
        </p:nvPicPr>
        <p:blipFill>
          <a:blip r:embed="rId1"/>
          <a:stretch/>
        </p:blipFill>
        <p:spPr>
          <a:xfrm>
            <a:off x="1503360" y="2671920"/>
            <a:ext cx="61261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65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AutoShape 27"/>
          <p:cNvSpPr/>
          <p:nvPr/>
        </p:nvSpPr>
        <p:spPr>
          <a:xfrm>
            <a:off x="6012000" y="1413000"/>
            <a:ext cx="2520720" cy="12240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找准一组几个是解题的关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6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矩形 21"/>
          <p:cNvSpPr/>
          <p:nvPr/>
        </p:nvSpPr>
        <p:spPr>
          <a:xfrm>
            <a:off x="900000" y="3195720"/>
            <a:ext cx="7380360" cy="474840"/>
          </a:xfrm>
          <a:prstGeom prst="rect">
            <a:avLst/>
          </a:prstGeom>
          <a:solidFill>
            <a:srgbClr val="ff0000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观察物体或图形的排列规律，要明确几个物体或图形为一组，通过计算得到某个物体或图形是第几组的第几个，从而推算出它的形状或颜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922320" y="5246640"/>
            <a:ext cx="7453440" cy="47484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第一个物体或图形开始，到它再次出现之前的物体或图形为一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2540160" y="825480"/>
            <a:ext cx="59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联欢会，同学们决定用不同颜色的气球来装饰教室。大家拿出了不同的气球装饰方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15880" y="19080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C:\Users\Administrator\AppData\Roaming\Tencent\Users\781547643\QQ\WinTemp\RichOle\5X9F7_S]5EDHY$46$IUA%(T.png"/>
          <p:cNvPicPr/>
          <p:nvPr/>
        </p:nvPicPr>
        <p:blipFill>
          <a:blip r:embed="rId1"/>
          <a:stretch/>
        </p:blipFill>
        <p:spPr>
          <a:xfrm>
            <a:off x="2328840" y="2025720"/>
            <a:ext cx="5429160" cy="1104840"/>
          </a:xfrm>
          <a:prstGeom prst="rect">
            <a:avLst/>
          </a:prstGeom>
          <a:ln w="0">
            <a:noFill/>
          </a:ln>
        </p:spPr>
      </p:pic>
      <p:sp>
        <p:nvSpPr>
          <p:cNvPr id="62" name="矩形 2"/>
          <p:cNvSpPr/>
          <p:nvPr/>
        </p:nvSpPr>
        <p:spPr>
          <a:xfrm>
            <a:off x="1846080" y="3187800"/>
            <a:ext cx="50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上面的顺序挂下去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气球是什么颜色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514520" y="5060880"/>
            <a:ext cx="65736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2192400" y="5060880"/>
            <a:ext cx="638280" cy="29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4"/>
          <a:stretch/>
        </p:blipFill>
        <p:spPr>
          <a:xfrm>
            <a:off x="2830680" y="5083200"/>
            <a:ext cx="65700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3506760" y="5083200"/>
            <a:ext cx="638280" cy="29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5479920" y="5052960"/>
            <a:ext cx="6573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7"/>
          <a:stretch/>
        </p:blipFill>
        <p:spPr>
          <a:xfrm>
            <a:off x="6157800" y="5052960"/>
            <a:ext cx="638280" cy="29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4145040" y="5067360"/>
            <a:ext cx="65700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9"/>
          <a:stretch/>
        </p:blipFill>
        <p:spPr>
          <a:xfrm>
            <a:off x="4822920" y="5067360"/>
            <a:ext cx="637920" cy="29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10"/>
          <a:srcRect l="0" t="0" r="50055" b="0"/>
          <a:stretch/>
        </p:blipFill>
        <p:spPr>
          <a:xfrm>
            <a:off x="6823080" y="5041800"/>
            <a:ext cx="328680" cy="3049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0"/>
          <p:cNvGrpSpPr/>
          <p:nvPr/>
        </p:nvGrpSpPr>
        <p:grpSpPr>
          <a:xfrm>
            <a:off x="119160" y="3876840"/>
            <a:ext cx="3228480" cy="2052000"/>
            <a:chOff x="119160" y="3876840"/>
            <a:chExt cx="3228480" cy="2052000"/>
          </a:xfrm>
        </p:grpSpPr>
        <p:pic>
          <p:nvPicPr>
            <p:cNvPr id="73" name="Picture 28" descr="1"/>
            <p:cNvPicPr/>
            <p:nvPr/>
          </p:nvPicPr>
          <p:blipFill>
            <a:blip r:embed="rId11"/>
            <a:stretch/>
          </p:blipFill>
          <p:spPr>
            <a:xfrm>
              <a:off x="119160" y="4132080"/>
              <a:ext cx="113328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27"/>
            <p:cNvSpPr/>
            <p:nvPr/>
          </p:nvSpPr>
          <p:spPr>
            <a:xfrm>
              <a:off x="1188720" y="3876840"/>
              <a:ext cx="2158920" cy="496440"/>
            </a:xfrm>
            <a:prstGeom prst="wedgeRoundRectCallout">
              <a:avLst>
                <a:gd name="adj1" fmla="val -56898"/>
                <a:gd name="adj2" fmla="val 99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画了画，是红色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矩形 23"/>
          <p:cNvSpPr/>
          <p:nvPr/>
        </p:nvSpPr>
        <p:spPr>
          <a:xfrm>
            <a:off x="6554880" y="536580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第</a:t>
            </a: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17</a:t>
            </a:r>
            <a:r>
              <a:rPr b="0" lang="zh-CN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4525920" y="3887640"/>
            <a:ext cx="4271760" cy="2041200"/>
            <a:chOff x="4525920" y="3887640"/>
            <a:chExt cx="4271760" cy="2041200"/>
          </a:xfrm>
        </p:grpSpPr>
        <p:pic>
          <p:nvPicPr>
            <p:cNvPr id="77" name="Picture 25" descr="3"/>
            <p:cNvPicPr/>
            <p:nvPr/>
          </p:nvPicPr>
          <p:blipFill>
            <a:blip r:embed="rId12"/>
            <a:stretch/>
          </p:blipFill>
          <p:spPr>
            <a:xfrm>
              <a:off x="7758000" y="4128840"/>
              <a:ext cx="10396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27"/>
            <p:cNvSpPr/>
            <p:nvPr/>
          </p:nvSpPr>
          <p:spPr>
            <a:xfrm>
              <a:off x="4525920" y="3887640"/>
              <a:ext cx="2790720" cy="496440"/>
            </a:xfrm>
            <a:prstGeom prst="wedgeRoundRectCallout">
              <a:avLst>
                <a:gd name="adj1" fmla="val 64055"/>
                <a:gd name="adj2" fmla="val 77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自己喜欢的图形表示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C:\Users\Administrator\AppData\Roaming\Tencent\Users\781547643\QQ\WinTemp\RichOle\5X9F7_S]5EDHY$46$IUA%(T.png"/>
          <p:cNvPicPr/>
          <p:nvPr/>
        </p:nvPicPr>
        <p:blipFill>
          <a:blip r:embed="rId1"/>
          <a:stretch/>
        </p:blipFill>
        <p:spPr>
          <a:xfrm>
            <a:off x="1739880" y="1844640"/>
            <a:ext cx="542916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7"/>
          <p:cNvGrpSpPr/>
          <p:nvPr/>
        </p:nvGrpSpPr>
        <p:grpSpPr>
          <a:xfrm>
            <a:off x="6129360" y="1003320"/>
            <a:ext cx="2957040" cy="1879560"/>
            <a:chOff x="6129360" y="1003320"/>
            <a:chExt cx="2957040" cy="1879560"/>
          </a:xfrm>
        </p:grpSpPr>
        <p:pic>
          <p:nvPicPr>
            <p:cNvPr id="83" name="Picture 25" descr="3"/>
            <p:cNvPicPr/>
            <p:nvPr/>
          </p:nvPicPr>
          <p:blipFill>
            <a:blip r:embed="rId2"/>
            <a:stretch/>
          </p:blipFill>
          <p:spPr>
            <a:xfrm>
              <a:off x="8046720" y="1082520"/>
              <a:ext cx="1039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utoShape 27"/>
            <p:cNvSpPr/>
            <p:nvPr/>
          </p:nvSpPr>
          <p:spPr>
            <a:xfrm>
              <a:off x="6129360" y="1003320"/>
              <a:ext cx="1706400" cy="496440"/>
            </a:xfrm>
            <a:prstGeom prst="wedgeRoundRectCallout">
              <a:avLst>
                <a:gd name="adj1" fmla="val 56365"/>
                <a:gd name="adj2" fmla="val 40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算了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弧形 3"/>
          <p:cNvSpPr/>
          <p:nvPr/>
        </p:nvSpPr>
        <p:spPr>
          <a:xfrm rot="5400000">
            <a:off x="2256480" y="2142360"/>
            <a:ext cx="565200" cy="1411200"/>
          </a:xfrm>
          <a:custGeom>
            <a:avLst/>
            <a:gdLst/>
            <a:ahLst/>
            <a:rect l="l" t="t" r="r" b="b"/>
            <a:pathLst>
              <a:path stroke="0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  <a:lnTo>
                  <a:pt x="283219" y="705151"/>
                </a:lnTo>
                <a:lnTo>
                  <a:pt x="328638" y="9126"/>
                </a:lnTo>
                <a:close/>
              </a:path>
              <a:path fill="none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弧形 27"/>
          <p:cNvSpPr/>
          <p:nvPr/>
        </p:nvSpPr>
        <p:spPr>
          <a:xfrm rot="5400000">
            <a:off x="3666960" y="2143080"/>
            <a:ext cx="565200" cy="1409760"/>
          </a:xfrm>
          <a:custGeom>
            <a:avLst/>
            <a:gdLst/>
            <a:ahLst/>
            <a:rect l="l" t="t" r="r" b="b"/>
            <a:pathLst>
              <a:path stroke="0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  <a:lnTo>
                  <a:pt x="283219" y="705151"/>
                </a:lnTo>
                <a:lnTo>
                  <a:pt x="328638" y="9126"/>
                </a:lnTo>
                <a:close/>
              </a:path>
              <a:path fill="none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弧形 28"/>
          <p:cNvSpPr/>
          <p:nvPr/>
        </p:nvSpPr>
        <p:spPr>
          <a:xfrm rot="5400000">
            <a:off x="5241960" y="2128680"/>
            <a:ext cx="565200" cy="1409760"/>
          </a:xfrm>
          <a:custGeom>
            <a:avLst/>
            <a:gdLst/>
            <a:ahLst/>
            <a:rect l="l" t="t" r="r" b="b"/>
            <a:pathLst>
              <a:path stroke="0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  <a:lnTo>
                  <a:pt x="283219" y="705151"/>
                </a:lnTo>
                <a:lnTo>
                  <a:pt x="328638" y="9126"/>
                </a:lnTo>
                <a:close/>
              </a:path>
              <a:path fill="none" w="566438" h="1410302">
                <a:moveTo>
                  <a:pt x="328638" y="9126"/>
                </a:moveTo>
                <a:cubicBezTo>
                  <a:pt x="465591" y="64525"/>
                  <a:pt x="566260" y="358793"/>
                  <a:pt x="566438" y="704246"/>
                </a:cubicBezTo>
                <a:cubicBezTo>
                  <a:pt x="566614" y="1046244"/>
                  <a:pt x="468199" y="1339254"/>
                  <a:pt x="332974" y="139933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9"/>
          <p:cNvSpPr/>
          <p:nvPr/>
        </p:nvSpPr>
        <p:spPr>
          <a:xfrm>
            <a:off x="1662120" y="3193920"/>
            <a:ext cx="1754280" cy="581400"/>
          </a:xfrm>
          <a:prstGeom prst="rect">
            <a:avLst/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0"/>
          <p:cNvSpPr/>
          <p:nvPr/>
        </p:nvSpPr>
        <p:spPr>
          <a:xfrm>
            <a:off x="2916360" y="432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÷4=4……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31"/>
          <p:cNvSpPr/>
          <p:nvPr/>
        </p:nvSpPr>
        <p:spPr>
          <a:xfrm>
            <a:off x="395280" y="5510160"/>
            <a:ext cx="7661160" cy="581400"/>
          </a:xfrm>
          <a:prstGeom prst="rect">
            <a:avLst/>
          </a:prstGeom>
          <a:solidFill>
            <a:srgbClr val="ff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余数是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第五组的第一个气球是红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2540160" y="825480"/>
            <a:ext cx="59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联欢会，同学们决定用不同颜色的气球来装饰教室。大家拿出了不同的气球装饰方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15880" y="19080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案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2507040" y="3587760"/>
            <a:ext cx="48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上面的顺序挂下去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气球是什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颜色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466560" y="4795920"/>
            <a:ext cx="3229200" cy="1797120"/>
            <a:chOff x="466560" y="4795920"/>
            <a:chExt cx="3229200" cy="1797120"/>
          </a:xfrm>
        </p:grpSpPr>
        <p:pic>
          <p:nvPicPr>
            <p:cNvPr id="98" name="Picture 28" descr="1"/>
            <p:cNvPicPr/>
            <p:nvPr/>
          </p:nvPicPr>
          <p:blipFill>
            <a:blip r:embed="rId1"/>
            <a:stretch/>
          </p:blipFill>
          <p:spPr>
            <a:xfrm>
              <a:off x="466560" y="4795920"/>
              <a:ext cx="113364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27"/>
            <p:cNvSpPr/>
            <p:nvPr/>
          </p:nvSpPr>
          <p:spPr>
            <a:xfrm>
              <a:off x="1536480" y="4983480"/>
              <a:ext cx="2159280" cy="496440"/>
            </a:xfrm>
            <a:prstGeom prst="wedgeRoundRectCallout">
              <a:avLst>
                <a:gd name="adj1" fmla="val -56898"/>
                <a:gd name="adj2" fmla="val 33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先找规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27"/>
          <p:cNvGrpSpPr/>
          <p:nvPr/>
        </p:nvGrpSpPr>
        <p:grpSpPr>
          <a:xfrm>
            <a:off x="4525920" y="4554360"/>
            <a:ext cx="4271760" cy="1879560"/>
            <a:chOff x="4525920" y="4554360"/>
            <a:chExt cx="4271760" cy="1879560"/>
          </a:xfrm>
        </p:grpSpPr>
        <p:pic>
          <p:nvPicPr>
            <p:cNvPr id="101" name="Picture 25" descr="3"/>
            <p:cNvPicPr/>
            <p:nvPr/>
          </p:nvPicPr>
          <p:blipFill>
            <a:blip r:embed="rId2"/>
            <a:stretch/>
          </p:blipFill>
          <p:spPr>
            <a:xfrm>
              <a:off x="7758000" y="4633920"/>
              <a:ext cx="10396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4525920" y="4554360"/>
              <a:ext cx="2790720" cy="496440"/>
            </a:xfrm>
            <a:prstGeom prst="wedgeRoundRectCallout">
              <a:avLst>
                <a:gd name="adj1" fmla="val 64055"/>
                <a:gd name="adj2" fmla="val 208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组气球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" descr="C:\Users\Administrator\AppData\Roaming\Tencent\Users\781547643\QQ\WinTemp\RichOle\ZC3JSHR6K]}JJ8G%T)`F[21.png"/>
          <p:cNvPicPr/>
          <p:nvPr/>
        </p:nvPicPr>
        <p:blipFill>
          <a:blip r:embed="rId3"/>
          <a:stretch/>
        </p:blipFill>
        <p:spPr>
          <a:xfrm>
            <a:off x="2268360" y="1898640"/>
            <a:ext cx="5801040" cy="1085760"/>
          </a:xfrm>
          <a:prstGeom prst="rect">
            <a:avLst/>
          </a:prstGeom>
          <a:ln w="0">
            <a:noFill/>
          </a:ln>
        </p:spPr>
      </p:pic>
      <p:sp>
        <p:nvSpPr>
          <p:cNvPr id="104" name="弧形 27"/>
          <p:cNvSpPr/>
          <p:nvPr/>
        </p:nvSpPr>
        <p:spPr>
          <a:xfrm rot="5400000">
            <a:off x="2984760" y="2048400"/>
            <a:ext cx="565200" cy="159876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弧形 28"/>
          <p:cNvSpPr/>
          <p:nvPr/>
        </p:nvSpPr>
        <p:spPr>
          <a:xfrm rot="5400000">
            <a:off x="4885200" y="2078640"/>
            <a:ext cx="566640" cy="160020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弧形 29"/>
          <p:cNvSpPr/>
          <p:nvPr/>
        </p:nvSpPr>
        <p:spPr>
          <a:xfrm rot="5400000">
            <a:off x="6674040" y="2078640"/>
            <a:ext cx="566640" cy="160020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0"/>
          <p:cNvSpPr/>
          <p:nvPr/>
        </p:nvSpPr>
        <p:spPr>
          <a:xfrm>
            <a:off x="2392200" y="3193920"/>
            <a:ext cx="1752840" cy="581400"/>
          </a:xfrm>
          <a:prstGeom prst="rect">
            <a:avLst/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6129360" y="1003320"/>
            <a:ext cx="2957040" cy="1879560"/>
            <a:chOff x="6129360" y="1003320"/>
            <a:chExt cx="2957040" cy="1879560"/>
          </a:xfrm>
        </p:grpSpPr>
        <p:pic>
          <p:nvPicPr>
            <p:cNvPr id="111" name="Picture 25" descr="3"/>
            <p:cNvPicPr/>
            <p:nvPr/>
          </p:nvPicPr>
          <p:blipFill>
            <a:blip r:embed="rId1"/>
            <a:stretch/>
          </p:blipFill>
          <p:spPr>
            <a:xfrm>
              <a:off x="8046720" y="1082520"/>
              <a:ext cx="1039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27"/>
            <p:cNvSpPr/>
            <p:nvPr/>
          </p:nvSpPr>
          <p:spPr>
            <a:xfrm>
              <a:off x="6129360" y="1003320"/>
              <a:ext cx="1706400" cy="496440"/>
            </a:xfrm>
            <a:prstGeom prst="wedgeRoundRectCallout">
              <a:avLst>
                <a:gd name="adj1" fmla="val 56365"/>
                <a:gd name="adj2" fmla="val 40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算一算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30"/>
          <p:cNvSpPr/>
          <p:nvPr/>
        </p:nvSpPr>
        <p:spPr>
          <a:xfrm>
            <a:off x="2468520" y="3538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÷5=5…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1"/>
          <p:cNvSpPr/>
          <p:nvPr/>
        </p:nvSpPr>
        <p:spPr>
          <a:xfrm>
            <a:off x="1417680" y="4194000"/>
            <a:ext cx="6804000" cy="581400"/>
          </a:xfrm>
          <a:prstGeom prst="rect">
            <a:avLst/>
          </a:prstGeom>
          <a:solidFill>
            <a:srgbClr val="7030a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余数是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第六组的第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是蓝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C:\Users\Administrator\AppData\Roaming\Tencent\Users\781547643\QQ\WinTemp\RichOle\ZC3JSHR6K]}JJ8G%T)`F[21.png"/>
          <p:cNvPicPr/>
          <p:nvPr/>
        </p:nvPicPr>
        <p:blipFill>
          <a:blip r:embed="rId2"/>
          <a:stretch/>
        </p:blipFill>
        <p:spPr>
          <a:xfrm>
            <a:off x="1252440" y="1541520"/>
            <a:ext cx="5800680" cy="1085760"/>
          </a:xfrm>
          <a:prstGeom prst="rect">
            <a:avLst/>
          </a:prstGeom>
          <a:ln w="0">
            <a:noFill/>
          </a:ln>
        </p:spPr>
      </p:pic>
      <p:sp>
        <p:nvSpPr>
          <p:cNvPr id="116" name="弧形 16"/>
          <p:cNvSpPr/>
          <p:nvPr/>
        </p:nvSpPr>
        <p:spPr>
          <a:xfrm rot="5400000">
            <a:off x="1969560" y="1690560"/>
            <a:ext cx="565200" cy="160020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弧形 17"/>
          <p:cNvSpPr/>
          <p:nvPr/>
        </p:nvSpPr>
        <p:spPr>
          <a:xfrm rot="5400000">
            <a:off x="3868920" y="1721520"/>
            <a:ext cx="566640" cy="160020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弧形 18"/>
          <p:cNvSpPr/>
          <p:nvPr/>
        </p:nvSpPr>
        <p:spPr>
          <a:xfrm rot="5400000">
            <a:off x="5659560" y="1722600"/>
            <a:ext cx="566640" cy="1598400"/>
          </a:xfrm>
          <a:custGeom>
            <a:avLst/>
            <a:gdLst/>
            <a:ahLst/>
            <a:rect l="l" t="t" r="r" b="b"/>
            <a:pathLst>
              <a:path stroke="0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  <a:lnTo>
                  <a:pt x="283219" y="799895"/>
                </a:lnTo>
                <a:lnTo>
                  <a:pt x="334551" y="13248"/>
                </a:lnTo>
                <a:close/>
              </a:path>
              <a:path fill="none" w="566438" h="1599789">
                <a:moveTo>
                  <a:pt x="334551" y="13248"/>
                </a:moveTo>
                <a:cubicBezTo>
                  <a:pt x="468789" y="83121"/>
                  <a:pt x="566283" y="413477"/>
                  <a:pt x="566438" y="798990"/>
                </a:cubicBezTo>
                <a:cubicBezTo>
                  <a:pt x="566591" y="1179923"/>
                  <a:pt x="471607" y="1508310"/>
                  <a:pt x="339411" y="15838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9"/>
          <p:cNvSpPr/>
          <p:nvPr/>
        </p:nvSpPr>
        <p:spPr>
          <a:xfrm>
            <a:off x="1376280" y="2836800"/>
            <a:ext cx="1752840" cy="581400"/>
          </a:xfrm>
          <a:prstGeom prst="rect">
            <a:avLst/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0"/>
          <p:cNvSpPr/>
          <p:nvPr/>
        </p:nvSpPr>
        <p:spPr>
          <a:xfrm>
            <a:off x="2563920" y="4941720"/>
            <a:ext cx="25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÷5=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1"/>
          <p:cNvSpPr/>
          <p:nvPr/>
        </p:nvSpPr>
        <p:spPr>
          <a:xfrm>
            <a:off x="755640" y="5599080"/>
            <a:ext cx="7632720" cy="581400"/>
          </a:xfrm>
          <a:prstGeom prst="rect">
            <a:avLst/>
          </a:prstGeom>
          <a:solidFill>
            <a:srgbClr val="ff00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余数，第八组的最后气球一个是蓝色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105520" y="1003320"/>
            <a:ext cx="3506760" cy="1879560"/>
            <a:chOff x="5105520" y="1003320"/>
            <a:chExt cx="3506760" cy="1879560"/>
          </a:xfrm>
        </p:grpSpPr>
        <p:pic>
          <p:nvPicPr>
            <p:cNvPr id="125" name="Picture 25" descr="3"/>
            <p:cNvPicPr/>
            <p:nvPr/>
          </p:nvPicPr>
          <p:blipFill>
            <a:blip r:embed="rId1"/>
            <a:stretch/>
          </p:blipFill>
          <p:spPr>
            <a:xfrm>
              <a:off x="7572240" y="1082520"/>
              <a:ext cx="10400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27"/>
            <p:cNvSpPr/>
            <p:nvPr/>
          </p:nvSpPr>
          <p:spPr>
            <a:xfrm>
              <a:off x="5105520" y="1003320"/>
              <a:ext cx="2255760" cy="496440"/>
            </a:xfrm>
            <a:prstGeom prst="wedgeRoundRectCallout">
              <a:avLst>
                <a:gd name="adj1" fmla="val 56379"/>
                <a:gd name="adj2" fmla="val 40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想好再画呦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20"/>
          <p:cNvSpPr/>
          <p:nvPr/>
        </p:nvSpPr>
        <p:spPr>
          <a:xfrm>
            <a:off x="1327320" y="2406600"/>
            <a:ext cx="58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自己设计一种气球装饰方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己提出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C:\Users\Administrator\AppData\Roaming\Tencent\Users\781547643\QQ\WinTemp\RichOle\30N(P8~Q6ZVLY[3)$`(I@$8.png"/>
          <p:cNvPicPr/>
          <p:nvPr/>
        </p:nvPicPr>
        <p:blipFill>
          <a:blip r:embed="rId2"/>
          <a:stretch/>
        </p:blipFill>
        <p:spPr>
          <a:xfrm>
            <a:off x="1468440" y="3433680"/>
            <a:ext cx="6648480" cy="143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994040" y="2846520"/>
            <a:ext cx="5314680" cy="552240"/>
          </a:xfrm>
          <a:prstGeom prst="rect">
            <a:avLst/>
          </a:prstGeom>
          <a:ln w="0">
            <a:noFill/>
          </a:ln>
        </p:spPr>
      </p:pic>
      <p:sp>
        <p:nvSpPr>
          <p:cNvPr id="135" name="矩形 8"/>
          <p:cNvSpPr/>
          <p:nvPr/>
        </p:nvSpPr>
        <p:spPr>
          <a:xfrm>
            <a:off x="1224000" y="358776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上面的顺序摆，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是什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颜色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900000" y="206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摆图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258920" y="2781360"/>
            <a:ext cx="66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仔细观察圆的排列，发现规律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红色的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黄色的为一组，一组一组排列下去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组，可以分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，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因此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是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的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是红色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9:29Z</dcterms:modified>
  <cp:revision>292</cp:revision>
  <dc:subject>www.xkb1.com</dc:subject>
  <dc:title>www.xkb1.com</dc:title>
</cp:coreProperties>
</file>